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F94-4B68-4E86-AC8B-DA11C0E1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48F-AE83-438C-B733-A273265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07D-BCEF-4374-8020-4A9543B3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4D7-725D-416A-AD3E-871611AD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13A-1D60-4B7B-99CF-C13F45B5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B84-D85A-48B3-9F17-C967FE4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00F-DC2E-4D63-A8F0-8AAF1C5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217-086D-4A2A-BABF-2E325763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AE0-5A18-4B18-A883-9D5E2561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A63-5781-4580-AE56-BD59E83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141-89D1-4DB0-9F2A-5CBBF8C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E22-E943-458C-88D7-FBBFA11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E1A2-6633-483B-8D97-78859A63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6880" y="692280"/>
            <a:ext cx="497520" cy="5700960"/>
            <a:chOff x="416880" y="692280"/>
            <a:chExt cx="497520" cy="5700960"/>
          </a:xfrm>
        </p:grpSpPr>
        <p:sp>
          <p:nvSpPr>
            <p:cNvPr id="42" name=""/>
            <p:cNvSpPr/>
            <p:nvPr/>
          </p:nvSpPr>
          <p:spPr>
            <a:xfrm>
              <a:off x="416880" y="6922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6880" y="882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6720" y="1047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5640" y="120348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0400" y="1627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1840" y="1833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1840" y="198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1840" y="2152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1840" y="244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1840" y="277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840" y="3024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1840" y="3227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1840" y="342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6720" y="1440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1840" y="361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1840" y="3819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1840" y="4070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1840" y="4408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1680" y="4687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1680" y="4861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1680" y="50007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680" y="5210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920" y="54039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6920" y="56372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920" y="58057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6720" y="59626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6720" y="6147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90640" y="828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0640" y="10159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0640" y="1173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0640" y="1332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0640" y="1566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90640" y="1758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0640" y="19670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0640" y="2106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0640" y="22035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0640" y="2286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0640" y="25700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0640" y="27608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0640" y="29052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0640" y="30258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0640" y="31561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0640" y="3252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0640" y="38354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0640" y="40752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0640" y="3359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0640" y="3456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0640" y="3548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0640" y="3645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0640" y="37418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0640" y="39481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0640" y="42004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90640" y="4340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90640" y="45370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0640" y="48196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0640" y="48974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0640" y="49942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0640" y="51386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0640" y="5340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0640" y="55324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0640" y="5772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0640" y="5931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0640" y="60897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0640" y="6276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9840" y="755640"/>
            <a:ext cx="1800" cy="555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627280" y="6955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43280" y="7171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71640" y="6279840"/>
            <a:ext cx="7200720" cy="73080"/>
            <a:chOff x="971640" y="6279840"/>
            <a:chExt cx="7200720" cy="73080"/>
          </a:xfrm>
        </p:grpSpPr>
        <p:grpSp>
          <p:nvGrpSpPr>
            <p:cNvPr id="110" name=""/>
            <p:cNvGrpSpPr/>
            <p:nvPr/>
          </p:nvGrpSpPr>
          <p:grpSpPr>
            <a:xfrm>
              <a:off x="971640" y="6279840"/>
              <a:ext cx="1439640" cy="73080"/>
              <a:chOff x="971640" y="6279840"/>
              <a:chExt cx="1439640" cy="7308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971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116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14032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547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2589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8352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979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692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124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2268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4112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4140360" y="6279840"/>
              <a:ext cx="1439640" cy="73080"/>
              <a:chOff x="4140360" y="6279840"/>
              <a:chExt cx="1439640" cy="7308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4140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284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572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4716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27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004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148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48610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292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4370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580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556000" y="6279840"/>
              <a:ext cx="1439640" cy="73080"/>
              <a:chOff x="2556000" y="6279840"/>
              <a:chExt cx="1439640" cy="7308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2556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2700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987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132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28432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419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564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276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3708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852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995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724360" y="6279840"/>
              <a:ext cx="1439640" cy="73080"/>
              <a:chOff x="5724360" y="6279840"/>
              <a:chExt cx="1439640" cy="730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5724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868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6156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300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01164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588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73236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4450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687672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02108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164000" y="6279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 flipV="1">
              <a:off x="730872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45344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74072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8508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5963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81723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02944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6:42:35Z</dcterms:created>
  <dc:creator>Walter</dc:creator>
  <dc:description/>
  <dc:language>en-US</dc:language>
  <cp:lastModifiedBy>Walter Kölle</cp:lastModifiedBy>
  <dcterms:modified xsi:type="dcterms:W3CDTF">2005-08-06T19:40:29Z</dcterms:modified>
  <cp:revision>10</cp:revision>
  <dc:subject/>
  <dc:title>Kein Folientitel</dc:title>
</cp:coreProperties>
</file>