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47BD-E975-4CCC-8189-7BCAB3F8F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C86A-6DAC-4D92-BC34-7F1C9277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3457-E9CE-40F4-9AFE-E3F22BAF0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6208-E773-4574-96A2-7092A168F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D4D4-D7E4-452C-9343-0A2EB34A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6119-680B-4A77-B7F8-C31D09F5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24F8-E619-4426-B62C-2D058253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A1AF-6CBC-4B00-97AA-DD7DA4AD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4CC1-6E13-45F7-A50B-2DA94165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44CB-49AF-4D56-868C-4A70CEE8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5FAD-01D2-4F8D-8149-8A11F742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E52E-1C61-461B-AAEE-D95EE8D8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9157-49CC-4B74-87B1-C3EF12D5034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16880" y="692280"/>
            <a:ext cx="497520" cy="5700960"/>
            <a:chOff x="416880" y="692280"/>
            <a:chExt cx="497520" cy="5700960"/>
          </a:xfrm>
        </p:grpSpPr>
        <p:sp>
          <p:nvSpPr>
            <p:cNvPr id="42" name=""/>
            <p:cNvSpPr/>
            <p:nvPr/>
          </p:nvSpPr>
          <p:spPr>
            <a:xfrm>
              <a:off x="416880" y="692280"/>
              <a:ext cx="49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99,9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16880" y="882720"/>
              <a:ext cx="49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99,9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86720" y="1047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99,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5640" y="1203480"/>
              <a:ext cx="428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99,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90400" y="16275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1840" y="18338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9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91840" y="19828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9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91840" y="21528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9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91840" y="24480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91840" y="27766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1840" y="30243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91840" y="32277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91840" y="34228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6720" y="14400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99,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91840" y="36180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91840" y="38196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91840" y="40705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1840" y="44085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61680" y="468792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61680" y="486108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61680" y="500076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61680" y="521028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56920" y="5403960"/>
              <a:ext cx="35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,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56920" y="5637240"/>
              <a:ext cx="35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,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6920" y="5805720"/>
              <a:ext cx="35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,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86720" y="596268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,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86720" y="61470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,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890640" y="82872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90640" y="101592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90640" y="117324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90640" y="133200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90640" y="156672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90640" y="175896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90640" y="196704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0640" y="210672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0640" y="220356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0640" y="228600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90640" y="257004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90640" y="276084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90640" y="290520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90640" y="302580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90640" y="315612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90640" y="325296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90640" y="383544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90640" y="407520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90640" y="335916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90640" y="345600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90640" y="354816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90640" y="364500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90640" y="374184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90640" y="394812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90640" y="420048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90640" y="434016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90640" y="453708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90640" y="481968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90640" y="489744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90640" y="499428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90640" y="513864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90640" y="534024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90640" y="553248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90640" y="577224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90640" y="593100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90640" y="608976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90640" y="6276960"/>
            <a:ext cx="7262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9840" y="755640"/>
            <a:ext cx="1800" cy="5553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382760" y="62798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681200" y="62798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627280" y="62798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814480" y="62798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095560" y="62798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397240" y="62798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975040" y="62798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341520" y="62798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108240" y="62798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238560" y="62798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968400" y="62798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754440" y="6281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052880" y="6281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98960" y="6281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186520" y="6281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467240" y="6281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768920" y="6281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346720" y="6281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713560" y="6281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479920" y="6281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610240" y="6281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340080" y="6281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127920" y="62798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426360" y="62798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7372440" y="62798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559640" y="62798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840360" y="62798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142040" y="62798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7719840" y="62798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8086680" y="62798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853400" y="62798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983360" y="62798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713560" y="62798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826920" y="6324480"/>
            <a:ext cx="7560360" cy="247680"/>
            <a:chOff x="826920" y="6324480"/>
            <a:chExt cx="7560360" cy="247680"/>
          </a:xfrm>
        </p:grpSpPr>
        <p:sp>
          <p:nvSpPr>
            <p:cNvPr id="141" name=""/>
            <p:cNvSpPr/>
            <p:nvPr/>
          </p:nvSpPr>
          <p:spPr>
            <a:xfrm>
              <a:off x="6230880" y="632592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6120" y="632448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826920" y="6325920"/>
              <a:ext cx="7213680" cy="246240"/>
              <a:chOff x="826920" y="6325920"/>
              <a:chExt cx="7213680" cy="246240"/>
            </a:xfrm>
          </p:grpSpPr>
          <p:sp>
            <p:nvSpPr>
              <p:cNvPr id="144" name=""/>
              <p:cNvSpPr/>
              <p:nvPr/>
            </p:nvSpPr>
            <p:spPr>
              <a:xfrm>
                <a:off x="1191600" y="6325920"/>
                <a:ext cx="356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,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539360" y="6325920"/>
                <a:ext cx="250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955520" y="6325920"/>
                <a:ext cx="250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60080" y="6325920"/>
                <a:ext cx="250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496960" y="6325920"/>
                <a:ext cx="250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680920" y="6325920"/>
                <a:ext cx="250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970000" y="6325920"/>
                <a:ext cx="250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166560" y="632592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576240" y="632592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26920" y="6325920"/>
                <a:ext cx="250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876480" y="632592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293720" y="632592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598640" y="632592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824000" y="632592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013000" y="632592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308200" y="6325920"/>
                <a:ext cx="32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508000" y="6325920"/>
                <a:ext cx="390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633720" y="6325920"/>
                <a:ext cx="390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3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933600" y="6325920"/>
                <a:ext cx="390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4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351200" y="6325920"/>
                <a:ext cx="390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6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649640" y="6325920"/>
                <a:ext cx="390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8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919480" y="6325920"/>
                <a:ext cx="390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5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1380960" y="747720"/>
            <a:ext cx="1957680" cy="5543640"/>
            <a:chOff x="1380960" y="747720"/>
            <a:chExt cx="1957680" cy="5543640"/>
          </a:xfrm>
        </p:grpSpPr>
        <p:sp>
          <p:nvSpPr>
            <p:cNvPr id="167" name=""/>
            <p:cNvSpPr/>
            <p:nvPr/>
          </p:nvSpPr>
          <p:spPr>
            <a:xfrm>
              <a:off x="1380960" y="747720"/>
              <a:ext cx="0" cy="5543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79400" y="747720"/>
              <a:ext cx="0" cy="5543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093760" y="747720"/>
              <a:ext cx="0" cy="5543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98680" y="747720"/>
              <a:ext cx="0" cy="5543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624040" y="747720"/>
              <a:ext cx="0" cy="5543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13040" y="747720"/>
              <a:ext cx="0" cy="5543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973240" y="747720"/>
              <a:ext cx="0" cy="5543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08240" y="747720"/>
              <a:ext cx="0" cy="5543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6760" y="747720"/>
              <a:ext cx="0" cy="5543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38640" y="747720"/>
              <a:ext cx="0" cy="5543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753000" y="739800"/>
            <a:ext cx="1957320" cy="5543640"/>
            <a:chOff x="3753000" y="739800"/>
            <a:chExt cx="1957320" cy="5543640"/>
          </a:xfrm>
        </p:grpSpPr>
        <p:sp>
          <p:nvSpPr>
            <p:cNvPr id="178" name=""/>
            <p:cNvSpPr/>
            <p:nvPr/>
          </p:nvSpPr>
          <p:spPr>
            <a:xfrm>
              <a:off x="3753000" y="739800"/>
              <a:ext cx="0" cy="5543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51080" y="739800"/>
              <a:ext cx="0" cy="5543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65440" y="739800"/>
              <a:ext cx="0" cy="5543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70360" y="739800"/>
              <a:ext cx="0" cy="5543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995720" y="739800"/>
              <a:ext cx="0" cy="5543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184720" y="739800"/>
              <a:ext cx="0" cy="5543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44920" y="739800"/>
              <a:ext cx="0" cy="5543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79920" y="739800"/>
              <a:ext cx="0" cy="5543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608440" y="739800"/>
              <a:ext cx="0" cy="5543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10320" y="739800"/>
              <a:ext cx="0" cy="5543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6126120" y="735120"/>
            <a:ext cx="1957320" cy="5543280"/>
            <a:chOff x="6126120" y="735120"/>
            <a:chExt cx="1957320" cy="5543280"/>
          </a:xfrm>
        </p:grpSpPr>
        <p:sp>
          <p:nvSpPr>
            <p:cNvPr id="189" name=""/>
            <p:cNvSpPr/>
            <p:nvPr/>
          </p:nvSpPr>
          <p:spPr>
            <a:xfrm>
              <a:off x="6126120" y="735120"/>
              <a:ext cx="0" cy="5543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24200" y="735120"/>
              <a:ext cx="0" cy="5543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38560" y="735120"/>
              <a:ext cx="0" cy="5543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143480" y="735120"/>
              <a:ext cx="0" cy="5543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368840" y="735120"/>
              <a:ext cx="0" cy="5543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557840" y="735120"/>
              <a:ext cx="0" cy="5543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718040" y="735120"/>
              <a:ext cx="0" cy="5543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853040" y="735120"/>
              <a:ext cx="0" cy="5543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981560" y="735120"/>
              <a:ext cx="0" cy="5543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083440" y="735120"/>
              <a:ext cx="0" cy="5543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6T16:42:35Z</dcterms:created>
  <dc:creator>Walter</dc:creator>
  <dc:description/>
  <dc:language>en-US</dc:language>
  <cp:lastModifiedBy>Walter Kölle</cp:lastModifiedBy>
  <dcterms:modified xsi:type="dcterms:W3CDTF">2005-08-06T19:46:31Z</dcterms:modified>
  <cp:revision>8</cp:revision>
  <dc:subject/>
  <dc:title>Kein Folientitel</dc:title>
</cp:coreProperties>
</file>