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AB9-E92D-4E3D-8EF6-E1A15C84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16D-FE06-40A0-82E4-7AC18E8B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1F7-9FD1-43B5-8314-480C855C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483-FA60-48C2-8CA8-00F7F8CA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C23-ED9C-4D45-B7EB-EEA055C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C53-B9D2-4729-8626-1CC62F86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D44-3B9C-46D1-8F82-2E681DE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41A-D8C3-4F6C-8885-2C382274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E24-FA97-4ABA-9103-8973BE3F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738-DFAB-4E61-8CF1-FDB7023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D98-5597-4F03-A118-20A615A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50A-9D20-4867-BEBE-BD38BD9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34D8-424D-4441-A419-EC2320DA5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90640" y="739800"/>
            <a:ext cx="7436880" cy="5614560"/>
            <a:chOff x="890640" y="739800"/>
            <a:chExt cx="7436880" cy="5614560"/>
          </a:xfrm>
        </p:grpSpPr>
        <p:sp>
          <p:nvSpPr>
            <p:cNvPr id="42" name=""/>
            <p:cNvSpPr/>
            <p:nvPr/>
          </p:nvSpPr>
          <p:spPr>
            <a:xfrm>
              <a:off x="890640" y="3835440"/>
              <a:ext cx="743688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00000" y="836640"/>
              <a:ext cx="7422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0640" y="101592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0640" y="11732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0640" y="13320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90640" y="156672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90640" y="17589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0640" y="19670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0640" y="210672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90640" y="22035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90640" y="22860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0640" y="25700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0640" y="27608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0640" y="29052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0640" y="30258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0640" y="315612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90640" y="32529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90640" y="40752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0640" y="33591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90640" y="34560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0640" y="35481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640" y="36450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0640" y="37418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90640" y="394812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90640" y="420048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0640" y="43401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0640" y="453708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0640" y="481968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0640" y="48974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0640" y="499428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0640" y="51386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0640" y="53402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0640" y="553248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577224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0640" y="593100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0640" y="60897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0640" y="6276960"/>
              <a:ext cx="7421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2320" y="755640"/>
              <a:ext cx="2520" cy="5553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6473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063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56148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4948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435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20760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09644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65984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30128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50144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1016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29488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75388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20900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9736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39144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85512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4396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0808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94880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14932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657680" y="62812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8308080" y="62798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448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0348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10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97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5644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469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356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128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9892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5520" y="74772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27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17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8892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764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396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9484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4180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4880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4716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03040" y="739800"/>
              <a:ext cx="0" cy="5543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6880" y="692280"/>
            <a:ext cx="497520" cy="5700960"/>
            <a:chOff x="416880" y="692280"/>
            <a:chExt cx="497520" cy="5700960"/>
          </a:xfrm>
        </p:grpSpPr>
        <p:sp>
          <p:nvSpPr>
            <p:cNvPr id="124" name=""/>
            <p:cNvSpPr/>
            <p:nvPr/>
          </p:nvSpPr>
          <p:spPr>
            <a:xfrm>
              <a:off x="416880" y="69228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880" y="882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6720" y="1047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640" y="120348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0400" y="162756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1840" y="18338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1840" y="198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1840" y="21528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840" y="244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1840" y="27766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1840" y="30243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1840" y="32277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1840" y="3422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6720" y="1440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9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840" y="361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1840" y="38196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1840" y="4070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1840" y="4408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680" y="468792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1680" y="48610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680" y="50007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1680" y="52102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920" y="540396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920" y="563724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6920" y="580572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6720" y="59626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6720" y="6147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,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82360" y="6332400"/>
            <a:ext cx="7641000" cy="246240"/>
            <a:chOff x="882360" y="6332400"/>
            <a:chExt cx="7641000" cy="246240"/>
          </a:xfrm>
        </p:grpSpPr>
        <p:sp>
          <p:nvSpPr>
            <p:cNvPr id="152" name=""/>
            <p:cNvSpPr/>
            <p:nvPr/>
          </p:nvSpPr>
          <p:spPr>
            <a:xfrm>
              <a:off x="1466640" y="633240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640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1432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124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900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772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168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244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3072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2360" y="63324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9260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2620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9600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196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3572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89680" y="6332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32400" y="63324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6:42:35Z</dcterms:created>
  <dc:creator>Walter</dc:creator>
  <dc:description/>
  <dc:language>en-US</dc:language>
  <cp:lastModifiedBy>Walter Kölle</cp:lastModifiedBy>
  <dcterms:modified xsi:type="dcterms:W3CDTF">2005-08-14T20:03:19Z</dcterms:modified>
  <cp:revision>12</cp:revision>
  <dc:subject/>
  <dc:title>Kein Folientitel</dc:title>
</cp:coreProperties>
</file>